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8E2-9C09-4023-8D76-A098C09E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B5F-F324-48B8-A539-29ED7EFD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FB4-003E-4D61-8D4F-BA398CE4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464-7DC0-421B-9065-A3E4FFA9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BD2-C575-4FF3-BC58-ADD4F2F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009-6B59-459C-A4E8-B00E91D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75B-EF8F-453D-B4A5-B9BFBB2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E8C-1B9F-4A1E-AE53-6C56071B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BD0-39DF-491F-9C50-AD7CB9A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810-EF1E-46C2-B1A8-81531E0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879-364C-433A-8885-B665B2A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491-366A-4AF1-87FF-224D0A2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89F-FAAB-4D31-B099-0594607D8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irMdITC TT-Medium"/>
              </a:rPr>
              <a:t>Run…..Run……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ways wanted to know why taller people run faster than short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dict that the taller person will run faster than the shorter people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m run 2 with a distance 40 yards, time them.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425592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4255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4876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right and wrong it was the average height that was the fas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6000">
            <a:off x="685440" y="39434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87200">
            <a:off x="5105520" y="3962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264800">
            <a:off x="5562720" y="83772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9867200">
            <a:off x="533160" y="83772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8:44Z</dcterms:created>
  <dc:creator>Sterling JrHi</dc:creator>
  <dc:description/>
  <dc:language>en-US</dc:language>
  <cp:lastModifiedBy>STERLING  USD376</cp:lastModifiedBy>
  <dcterms:modified xsi:type="dcterms:W3CDTF">2010-03-01T20:07:58Z</dcterms:modified>
  <cp:revision>4</cp:revision>
  <dc:subject/>
  <dc:title>Run…..Run……RUN</dc:title>
</cp:coreProperties>
</file>